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A01-66F6-41BF-880C-A0B0D8BF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677-9437-430F-A5FF-BF0F9783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7E5-E967-46B1-BF42-5D8CD99F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202-D511-484B-8E98-0CBB7C77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621-9492-49C5-88C2-01F77102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FCC-1EFB-432D-9B78-F10444B6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75D-85F2-4EFB-AFD6-210BF543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9D9-FA48-494B-BBFC-87A46853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F7E-82F5-4FE5-8E7B-F9190FFD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159-143E-4674-9E94-AECCD74D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DD0-449E-48D1-8EF0-9E57C508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C9E-E791-47E2-B059-92EA91A0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3B48-D075-4A46-9BA6-76F593046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edit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05:50:04Z</dcterms:created>
  <dc:creator>Michal.Holliday</dc:creator>
  <dc:description/>
  <dc:language>en-US</dc:language>
  <cp:lastModifiedBy>Michal.Holliday</cp:lastModifiedBy>
  <dcterms:modified xsi:type="dcterms:W3CDTF">2001-04-19T06:02:00Z</dcterms:modified>
  <cp:revision>2</cp:revision>
  <dc:subject/>
  <dc:title>PowerPoint Presentation</dc:title>
</cp:coreProperties>
</file>